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50ED-A04B-4D65-948E-FE0CE738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FD5F-1FE0-4EB0-B1DB-B29450CD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6A19-EB77-444A-8FB2-E6C39A9C3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F21F-0136-46B0-851E-A73538BD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BD33-605E-4622-B2A3-8889DBAA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5842-465D-4078-816D-BCA38F68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7135-BE5A-40D8-B0D3-626A6456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53BB-4BFC-4BFB-BEA7-EE693B6E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1F4E-4646-415D-8CB5-66E07DB1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A0CB-9917-41F8-A237-3241CCA5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50A8-5F5B-4B88-B862-AEF04939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FCCA-18A4-4099-992C-9A0D7B12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CE3D-B12A-4C60-819F-FDB959C13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Me llamo _________ Clase 7IL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La fecha es el 13 de diciembre del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31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Dónde estas aho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- Complete with the correct form of SER or EST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clase de ingles _________ aburr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éctor y Luisa _________intelig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___ de Urugu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ú ___________ en Puerto R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cafetería y el laboratorio ________ en el sót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rge _________una persona sinc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casa ____________ en Nueva Jers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_____ contento ho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paso de Ser y Est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difference betwe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0120" y="1600200"/>
            <a:ext cx="717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Physical descriptions; traits; characterist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440" y="1981080"/>
            <a:ext cx="84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Origin; to tell where someone or something is fr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3360" y="2362320"/>
            <a:ext cx="37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ell time; give a d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3360" y="2743200"/>
            <a:ext cx="39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o indicate poses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3062160"/>
            <a:ext cx="91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o tell profession, nationality, religion, political affili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4080" y="3429000"/>
            <a:ext cx="75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o tell where or when an event is taking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4440" y="3886200"/>
            <a:ext cx="57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o tell what something is made o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4080" y="4267080"/>
            <a:ext cx="357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For math equa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7400" y="5105520"/>
            <a:ext cx="39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o express a condi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360" y="5105520"/>
            <a:ext cx="377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o identify a loc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760" y="5486400"/>
            <a:ext cx="66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o talk about certain weather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880" y="5881680"/>
            <a:ext cx="59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o indicate a change from the n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600" y="6338880"/>
            <a:ext cx="83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o specify the special state or nature of someth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50 (1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50 (1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for SER/ESTAR Quiz 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819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9T00:31:39Z</dcterms:created>
  <dc:creator>Helen Zumaeta</dc:creator>
  <dc:description/>
  <dc:language>en-US</dc:language>
  <cp:lastModifiedBy>Helen Zumaeta</cp:lastModifiedBy>
  <dcterms:modified xsi:type="dcterms:W3CDTF">2012-12-17T21:11:43Z</dcterms:modified>
  <cp:revision>11</cp:revision>
  <dc:subject/>
  <dc:title>Me llamo _________ Clase 7IM La fecha es el 29 de abril del 2011</dc:title>
</cp:coreProperties>
</file>